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097-B22D-4B36-923E-B1F9D52A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F4C-A694-48DC-B57D-FAB4BA96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A52-5CD8-4F53-A191-F81A03EB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2F7-0B2E-437F-B2C0-0D29EBC8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445-CFBD-41F3-B995-961239E9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43A-0D07-468E-AF98-3B198719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2DF-37CB-4175-AEF9-1EE2A491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70F-A798-4E72-9631-5E67BCC6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3BE-33CE-4B94-B1D9-6D0F378C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E05-6855-4BD8-AB82-28E6EBC7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113-F4BC-4DD2-A6F3-32F5139A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9C1-3A72-4702-A747-0158768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E93C-71C6-4597-B461-608046BBF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</a:rPr>
              <a:t>Reading is THINK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 Tips on how to THINK while you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ip 1:  PREDI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ke a guess (prediction) about what is going to be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ip 2:  Ques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sk yourself “Do I understand what I am reading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sk yourself additional questions about the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ip 3:  Summar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fter you read, are you able to explain what you have just read (in YOUR wor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ip 4:  Making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an you </a:t>
            </a: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relate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to what you just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oes the text remind you of something / someone you already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ip 5:  Evalu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Judge what you r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4:56:13Z</dcterms:created>
  <dc:creator>BPS</dc:creator>
  <dc:description/>
  <dc:language>en-US</dc:language>
  <cp:lastModifiedBy>BPS</cp:lastModifiedBy>
  <dcterms:modified xsi:type="dcterms:W3CDTF">2009-10-27T15:23:17Z</dcterms:modified>
  <cp:revision>7</cp:revision>
  <dc:subject/>
  <dc:title>Reading is THINKING</dc:title>
</cp:coreProperties>
</file>